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755-2200-4825-830D-06C505E4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F69-8BB8-49EF-BDE4-1F452216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8FD-F9FF-42C4-93C6-FA40C62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353-9B40-4786-9F26-9DA52F14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6FA-4C0D-475F-8E1F-9A812DB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45F-7D9B-469B-A4CC-9A6B82B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6DA-D61A-4F29-88B9-4363195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88-4B57-4174-8038-A2B86457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E57-6C09-40E1-9008-15501FB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B56-CB3F-4806-8EC8-9781277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29C-AC36-4908-8FB0-8DAEF75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476-21B8-45B0-B344-C95B18C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0F71-C68A-40AC-9ED1-C0584E7DC0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71C0-1D2E-43A1-8E10-4E89BD0B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ndwri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Handwriting without Tears Screener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: Spell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5867280" y="58672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ritten Compo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with Rubric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CWS, Grammar Assess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3886200" y="685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5867280" y="13716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olog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905120" y="335268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BM C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2590920" y="3809880"/>
            <a:ext cx="2590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Spee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/Predicat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typ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ax CLOZ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9"/>
          <p:cNvSpPr/>
          <p:nvPr/>
        </p:nvSpPr>
        <p:spPr>
          <a:xfrm>
            <a:off x="5562720" y="350532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Organ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Style and 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guage U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3124080" y="182880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tn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cil G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6324480" y="838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al Stage of Spell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5486400" y="190512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4:49Z</dcterms:modified>
  <cp:revision>36</cp:revision>
  <dc:subject/>
  <dc:title>Slide 1</dc:title>
</cp:coreProperties>
</file>